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9D3-A629-4F17-AAB1-7FA44AA7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8F0-F4EB-4143-AD58-172C3E8B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6F9-31F7-4246-985E-AADF6BCE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7B0-ED42-47CF-B5EE-B0BE2502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449-ABF8-45B2-B683-E2977911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88B-6C76-48D2-B2AF-F9904371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471-927E-47E0-804B-BCB8A3FB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FA3-86A5-4AFF-851C-FB95A1FE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5A3-7C4D-48D2-B9D6-824267EB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884-4D6E-4271-8851-2F34080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CF5-9360-4EC8-A68E-C61BA16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8E1-555D-402E-AE86-68059D4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C569-6EE5-4951-9579-4908846FD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8000" y="2490840"/>
            <a:ext cx="1917720" cy="3314520"/>
          </a:xfrm>
          <a:custGeom>
            <a:avLst/>
            <a:gdLst/>
            <a:ahLst/>
            <a:rect l="l" t="t" r="r" b="b"/>
            <a:pathLst>
              <a:path w="1751" h="3024">
                <a:moveTo>
                  <a:pt x="0" y="2256"/>
                </a:moveTo>
                <a:cubicBezTo>
                  <a:pt x="288" y="1368"/>
                  <a:pt x="576" y="480"/>
                  <a:pt x="864" y="240"/>
                </a:cubicBezTo>
                <a:cubicBezTo>
                  <a:pt x="1152" y="0"/>
                  <a:pt x="1751" y="639"/>
                  <a:pt x="1728" y="816"/>
                </a:cubicBezTo>
                <a:cubicBezTo>
                  <a:pt x="1705" y="993"/>
                  <a:pt x="785" y="1057"/>
                  <a:pt x="727" y="1303"/>
                </a:cubicBezTo>
                <a:cubicBezTo>
                  <a:pt x="669" y="1549"/>
                  <a:pt x="1371" y="2003"/>
                  <a:pt x="1378" y="2290"/>
                </a:cubicBezTo>
                <a:cubicBezTo>
                  <a:pt x="1385" y="2577"/>
                  <a:pt x="895" y="2871"/>
                  <a:pt x="768" y="30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87520" y="3753000"/>
            <a:ext cx="10476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96404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23763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32004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80700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84600" y="487692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65320" y="575316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280" y="771480"/>
            <a:ext cx="7315200" cy="2125800"/>
            <a:chOff x="152280" y="771480"/>
            <a:chExt cx="7315200" cy="2125800"/>
          </a:xfrm>
        </p:grpSpPr>
        <p:sp>
          <p:nvSpPr>
            <p:cNvPr id="50" name=""/>
            <p:cNvSpPr/>
            <p:nvPr/>
          </p:nvSpPr>
          <p:spPr>
            <a:xfrm>
              <a:off x="1219320" y="847800"/>
              <a:ext cx="6095880" cy="1695240"/>
            </a:xfrm>
            <a:custGeom>
              <a:avLst/>
              <a:gdLst/>
              <a:ahLst/>
              <a:rect l="l" t="t" r="r" b="b"/>
              <a:pathLst>
                <a:path w="3840" h="1068">
                  <a:moveTo>
                    <a:pt x="0" y="831"/>
                  </a:moveTo>
                  <a:cubicBezTo>
                    <a:pt x="69" y="828"/>
                    <a:pt x="314" y="912"/>
                    <a:pt x="413" y="810"/>
                  </a:cubicBezTo>
                  <a:cubicBezTo>
                    <a:pt x="512" y="708"/>
                    <a:pt x="536" y="334"/>
                    <a:pt x="593" y="217"/>
                  </a:cubicBezTo>
                  <a:cubicBezTo>
                    <a:pt x="650" y="100"/>
                    <a:pt x="709" y="3"/>
                    <a:pt x="756" y="106"/>
                  </a:cubicBezTo>
                  <a:cubicBezTo>
                    <a:pt x="803" y="209"/>
                    <a:pt x="749" y="703"/>
                    <a:pt x="873" y="833"/>
                  </a:cubicBezTo>
                  <a:cubicBezTo>
                    <a:pt x="997" y="963"/>
                    <a:pt x="1354" y="1024"/>
                    <a:pt x="1501" y="886"/>
                  </a:cubicBezTo>
                  <a:cubicBezTo>
                    <a:pt x="1648" y="748"/>
                    <a:pt x="1687" y="0"/>
                    <a:pt x="1757" y="7"/>
                  </a:cubicBezTo>
                  <a:cubicBezTo>
                    <a:pt x="1827" y="14"/>
                    <a:pt x="1725" y="784"/>
                    <a:pt x="1920" y="926"/>
                  </a:cubicBezTo>
                  <a:cubicBezTo>
                    <a:pt x="2115" y="1068"/>
                    <a:pt x="2718" y="1006"/>
                    <a:pt x="2927" y="862"/>
                  </a:cubicBezTo>
                  <a:cubicBezTo>
                    <a:pt x="3136" y="718"/>
                    <a:pt x="3088" y="60"/>
                    <a:pt x="3171" y="65"/>
                  </a:cubicBezTo>
                  <a:cubicBezTo>
                    <a:pt x="3254" y="70"/>
                    <a:pt x="3316" y="747"/>
                    <a:pt x="3427" y="891"/>
                  </a:cubicBezTo>
                  <a:cubicBezTo>
                    <a:pt x="3538" y="1035"/>
                    <a:pt x="3754" y="920"/>
                    <a:pt x="3840" y="928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19320" y="771480"/>
              <a:ext cx="6095880" cy="1692360"/>
            </a:xfrm>
            <a:custGeom>
              <a:avLst/>
              <a:gdLst/>
              <a:ahLst/>
              <a:rect l="l" t="t" r="r" b="b"/>
              <a:pathLst>
                <a:path w="3840" h="1066">
                  <a:moveTo>
                    <a:pt x="0" y="907"/>
                  </a:moveTo>
                  <a:cubicBezTo>
                    <a:pt x="112" y="905"/>
                    <a:pt x="539" y="1007"/>
                    <a:pt x="675" y="893"/>
                  </a:cubicBezTo>
                  <a:cubicBezTo>
                    <a:pt x="811" y="779"/>
                    <a:pt x="770" y="354"/>
                    <a:pt x="815" y="224"/>
                  </a:cubicBezTo>
                  <a:cubicBezTo>
                    <a:pt x="860" y="94"/>
                    <a:pt x="905" y="0"/>
                    <a:pt x="948" y="113"/>
                  </a:cubicBezTo>
                  <a:cubicBezTo>
                    <a:pt x="991" y="226"/>
                    <a:pt x="935" y="770"/>
                    <a:pt x="1071" y="905"/>
                  </a:cubicBezTo>
                  <a:cubicBezTo>
                    <a:pt x="1207" y="1040"/>
                    <a:pt x="1626" y="1066"/>
                    <a:pt x="1763" y="922"/>
                  </a:cubicBezTo>
                  <a:cubicBezTo>
                    <a:pt x="1900" y="778"/>
                    <a:pt x="1821" y="46"/>
                    <a:pt x="1891" y="38"/>
                  </a:cubicBezTo>
                  <a:cubicBezTo>
                    <a:pt x="1961" y="30"/>
                    <a:pt x="2098" y="718"/>
                    <a:pt x="2182" y="875"/>
                  </a:cubicBezTo>
                  <a:cubicBezTo>
                    <a:pt x="2266" y="1032"/>
                    <a:pt x="2328" y="963"/>
                    <a:pt x="2397" y="980"/>
                  </a:cubicBezTo>
                  <a:cubicBezTo>
                    <a:pt x="2466" y="997"/>
                    <a:pt x="2546" y="984"/>
                    <a:pt x="2595" y="980"/>
                  </a:cubicBezTo>
                  <a:cubicBezTo>
                    <a:pt x="2644" y="976"/>
                    <a:pt x="2665" y="979"/>
                    <a:pt x="2694" y="957"/>
                  </a:cubicBezTo>
                  <a:cubicBezTo>
                    <a:pt x="2723" y="935"/>
                    <a:pt x="2714" y="989"/>
                    <a:pt x="2769" y="846"/>
                  </a:cubicBezTo>
                  <a:cubicBezTo>
                    <a:pt x="2824" y="703"/>
                    <a:pt x="2968" y="88"/>
                    <a:pt x="3025" y="96"/>
                  </a:cubicBezTo>
                  <a:cubicBezTo>
                    <a:pt x="3082" y="104"/>
                    <a:pt x="2977" y="742"/>
                    <a:pt x="3113" y="893"/>
                  </a:cubicBezTo>
                  <a:cubicBezTo>
                    <a:pt x="3249" y="1044"/>
                    <a:pt x="3689" y="981"/>
                    <a:pt x="3840" y="1004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3000" y="2398680"/>
              <a:ext cx="6172200" cy="0"/>
            </a:xfrm>
            <a:prstGeom prst="line">
              <a:avLst/>
            </a:prstGeom>
            <a:ln w="31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14400" y="811080"/>
              <a:ext cx="0" cy="17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251460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25290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5066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9:27:18Z</dcterms:created>
  <dc:creator>dmorris</dc:creator>
  <dc:description/>
  <dc:language>en-US</dc:language>
  <cp:lastModifiedBy>dmorris</cp:lastModifiedBy>
  <dcterms:modified xsi:type="dcterms:W3CDTF">2006-04-26T21:51:03Z</dcterms:modified>
  <cp:revision>4</cp:revision>
  <dc:subject/>
  <dc:title>Slide 1</dc:title>
</cp:coreProperties>
</file>